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88B-FFD5-4AD4-AC06-CF0155E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F29-6901-4FA3-8677-442EB36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B10-9CAD-4894-891C-E329A3EE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C2F-E0D5-4797-A865-935DBA49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16E-36D0-4E19-A62A-5FD052A6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F7A-4988-4882-A346-A7BFF29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DE9-B800-4518-AD44-349A7F34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218-DC11-4F20-BA51-FCADA6B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A9C-AC87-4786-A83E-4456925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C0E-7626-469B-B0AB-E5A2791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4D2-5238-40D7-9420-E194900A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91C-E493-4B6D-B8A4-708CB02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C256-FC55-4E2E-8458-12BA69339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hyperlink" Target="http://www.mersenne.or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62920" cy="5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3809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rgest Prime Discover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73656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nday 7</a:t>
            </a:r>
            <a:r>
              <a:rPr b="1" lang="en-US" sz="1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Jun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320920" cy="17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3880"/>
            <a:ext cx="6248520" cy="320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 scientist has used his computer to find the largest prime number found so far.- written out, it would stretch for 25 km. The number is the Mersenne prime 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700" spc="-1" strike="noStrike" baseline="30000">
                <a:solidFill>
                  <a:srgbClr val="3333cc"/>
                </a:solidFill>
                <a:latin typeface="Comic Sans MS"/>
              </a:rPr>
              <a:t>24 036 583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 –1.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The new figure identified by Josh Findley contains 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7,235,733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digits and would take someone the best part of 6 weeks to write out by hand. Mr Findley was taking part in a mass computer project known as 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GIMPS (Great Internet Mersenne Prime Search).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imps is closing in on the $100 000 prize for the first person to find a </a:t>
            </a: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10-million–digit-prime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! “An award winning prime could be mere weeks away or as much as a few years away” said GIMPS founder George Woltman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048120"/>
            <a:ext cx="2133720" cy="70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4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Mersenne Prime Fou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3886200"/>
            <a:ext cx="2209680" cy="824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mes are the building blocks of all whole nu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029200"/>
            <a:ext cx="8610480" cy="1554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storically searching for Mersenne primes has been used to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est computer hardwar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The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fre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MPS programme used by Findley has identified hidden hardware problems in many computers. He used a  2.4 GHz Pentium 4 Windows XP computer running for 14 days to prove the number was prime. Prime numbers are mainly of interest to mathematicians that study the branch of mathematics called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umber The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ut they are becoming important in cryptography and may eventually lead to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rackable co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2960" y="2901960"/>
            <a:ext cx="6211800" cy="70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-1 is a Mersenne prime then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 perfect number. Check this for the first f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25920" y="3929040"/>
            <a:ext cx="29019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3 x 2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0080" y="4464000"/>
            <a:ext cx="3294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7 x 4 =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92440" y="5013360"/>
            <a:ext cx="36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31 x 16 =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05040" y="5576760"/>
            <a:ext cx="40197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27 x 64 = 8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3560" y="2755800"/>
            <a:ext cx="5545080" cy="198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NEWS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i="1" lang="en-GB" sz="1800" spc="-1" strike="noStrike" u="sng" baseline="30000">
                <a:solidFill>
                  <a:srgbClr val="3333cc"/>
                </a:solidFill>
                <a:uFillTx/>
                <a:latin typeface="Comic Sans MS"/>
              </a:rPr>
              <a:t>th</a:t>
            </a:r>
            <a:r>
              <a:rPr b="0" i="1" lang="en-GB" sz="1800" spc="-1" strike="noStrike" u="sng">
                <a:solidFill>
                  <a:srgbClr val="3333cc"/>
                </a:solidFill>
                <a:uFillTx/>
                <a:latin typeface="Comic Sans MS"/>
              </a:rPr>
              <a:t> Septem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44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Mersenne Prim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2 582 65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1   has 9,808,358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3200" y="5119560"/>
            <a:ext cx="554508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$100 000 prize for the world’s first 10 million digit prime is still on but you need to be qui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135240"/>
            <a:ext cx="5833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search other information about Mersenne Primes and Perfect Numbers and don’t forget to join GI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89080" y="5473800"/>
            <a:ext cx="657396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at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ternet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rsenne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ime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83960" y="4797360"/>
            <a:ext cx="3462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http://www.mersenne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825480"/>
            <a:ext cx="6870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Mersenne number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first 12 of these are shown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2760" y="177804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77804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6840" y="1790640"/>
            <a:ext cx="12571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08560" y="1778040"/>
            <a:ext cx="1371600" cy="70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74000" y="1765440"/>
            <a:ext cx="137160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760" y="2603520"/>
            <a:ext cx="14349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1880" y="2590920"/>
            <a:ext cx="170172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2577960"/>
            <a:ext cx="1701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34040" y="2565360"/>
            <a:ext cx="170172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3327480"/>
            <a:ext cx="1803600" cy="39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84400" y="3327480"/>
            <a:ext cx="18925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75320" y="3289320"/>
            <a:ext cx="18921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40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7840" y="3949560"/>
            <a:ext cx="8775720" cy="383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arly mathematicians thought that if n was prime then 2</a:t>
            </a:r>
            <a:r>
              <a:rPr b="0" lang="en-GB" sz="19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-1 was also pr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825480"/>
            <a:ext cx="6870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Mersenne number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first 12 of these are shown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760" y="177804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77804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6840" y="1790640"/>
            <a:ext cx="12571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8560" y="1778040"/>
            <a:ext cx="1371600" cy="70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74000" y="1765440"/>
            <a:ext cx="137160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2760" y="2603520"/>
            <a:ext cx="14349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71880" y="2590920"/>
            <a:ext cx="170172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65560" y="2577960"/>
            <a:ext cx="1701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34040" y="2565360"/>
            <a:ext cx="170172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7960" y="3327480"/>
            <a:ext cx="1803600" cy="39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4400" y="3327480"/>
            <a:ext cx="18925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75320" y="3289320"/>
            <a:ext cx="18921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40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7840" y="3949560"/>
            <a:ext cx="8775720" cy="383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arly mathematicians thought that if n was prime then 2</a:t>
            </a:r>
            <a:r>
              <a:rPr b="0" lang="en-GB" sz="19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-1 was also pr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00" y="4572000"/>
            <a:ext cx="8951760" cy="3834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n 1536 Hudalricus Regius showed that 2</a:t>
            </a:r>
            <a:r>
              <a:rPr b="0" lang="en-GB" sz="19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-1 = 23 x 89 and so was not pr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35160" y="3200400"/>
            <a:ext cx="1752840" cy="622440"/>
            <a:chOff x="3035160" y="3200400"/>
            <a:chExt cx="1752840" cy="622440"/>
          </a:xfrm>
        </p:grpSpPr>
        <p:sp>
          <p:nvSpPr>
            <p:cNvPr id="82" name=""/>
            <p:cNvSpPr/>
            <p:nvPr/>
          </p:nvSpPr>
          <p:spPr>
            <a:xfrm flipV="1">
              <a:off x="3035160" y="3263400"/>
              <a:ext cx="1511280" cy="52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24080" y="3200400"/>
              <a:ext cx="1663920" cy="62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prime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819520" y="2222640"/>
            <a:ext cx="6083280" cy="3155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French monk called Marin Mersenne stated in one of his books in 1644 that for the pr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=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2, 3, 5, 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13, 17, 19, 31, 67, 127, and 2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at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-1 would be prime and that all other positive integers less than 257 would yield only composite (non-prime) numbers. He stated this even though he could not possibly have checked such huge numbers. He was making a conje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1625760"/>
            <a:ext cx="125748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73400" y="1625760"/>
            <a:ext cx="12571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13280" y="1638360"/>
            <a:ext cx="137160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27600" y="1625760"/>
            <a:ext cx="170208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2800" y="5227560"/>
            <a:ext cx="6083280" cy="1313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this all such numbers that were prime became known as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In subsequent years various mathematicians showed that his conjecture was not 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5559480"/>
            <a:ext cx="6083280" cy="429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 =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2, 3, 5, 7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9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27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62280" y="2814480"/>
            <a:ext cx="6083280" cy="2154960"/>
            <a:chOff x="2762280" y="2814480"/>
            <a:chExt cx="6083280" cy="2154960"/>
          </a:xfrm>
        </p:grpSpPr>
        <p:sp>
          <p:nvSpPr>
            <p:cNvPr id="109" name=""/>
            <p:cNvSpPr/>
            <p:nvPr/>
          </p:nvSpPr>
          <p:spPr>
            <a:xfrm>
              <a:off x="2762280" y="3311640"/>
              <a:ext cx="6083280" cy="429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 =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 2, 3, 5, 7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3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7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9,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31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67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27,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and 25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4600" y="3960720"/>
              <a:ext cx="5921280" cy="1008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wo of the numbers on Mersenne’s list did not generate Mersenne primes and there were others that he had missed off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08400" y="2814480"/>
              <a:ext cx="25401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ersenne’s 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343560" y="3295800"/>
            <a:ext cx="592200" cy="444240"/>
            <a:chOff x="6343560" y="3295800"/>
            <a:chExt cx="592200" cy="444240"/>
          </a:xfrm>
        </p:grpSpPr>
        <p:sp>
          <p:nvSpPr>
            <p:cNvPr id="113" name=""/>
            <p:cNvSpPr/>
            <p:nvPr/>
          </p:nvSpPr>
          <p:spPr>
            <a:xfrm flipV="1">
              <a:off x="6396120" y="3352680"/>
              <a:ext cx="539640" cy="3477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43560" y="3295800"/>
              <a:ext cx="577800" cy="4442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077320" y="3276720"/>
            <a:ext cx="591480" cy="444240"/>
            <a:chOff x="8077320" y="3276720"/>
            <a:chExt cx="591480" cy="444240"/>
          </a:xfrm>
        </p:grpSpPr>
        <p:sp>
          <p:nvSpPr>
            <p:cNvPr id="116" name=""/>
            <p:cNvSpPr/>
            <p:nvPr/>
          </p:nvSpPr>
          <p:spPr>
            <a:xfrm flipV="1">
              <a:off x="8129520" y="3333600"/>
              <a:ext cx="539280" cy="3477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7320" y="3276720"/>
              <a:ext cx="577440" cy="4442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429240" y="5516640"/>
            <a:ext cx="1543320" cy="54288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94080" y="5048280"/>
            <a:ext cx="2476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le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080" y="6203880"/>
            <a:ext cx="8800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was 1947 before all the numbers on Mersenne’s original list had been che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14760" y="2757600"/>
            <a:ext cx="6211800" cy="1008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is a formula linking a Mersenne Prime to its corresponding perfect number by multiplication. Use the table below to help you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6053040" y="3992400"/>
            <a:ext cx="2811600" cy="971640"/>
            <a:chOff x="6053040" y="3992400"/>
            <a:chExt cx="2811600" cy="971640"/>
          </a:xfrm>
        </p:grpSpPr>
        <p:sp>
          <p:nvSpPr>
            <p:cNvPr id="160" name=""/>
            <p:cNvSpPr/>
            <p:nvPr/>
          </p:nvSpPr>
          <p:spPr>
            <a:xfrm flipV="1">
              <a:off x="6053040" y="4545000"/>
              <a:ext cx="1378080" cy="41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85040" y="3992400"/>
              <a:ext cx="147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ff"/>
                  </a:solidFill>
                  <a:latin typeface="Comic Sans MS"/>
                </a:rPr>
                <a:t>Write as a power o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714760" y="2757600"/>
            <a:ext cx="6211800" cy="1008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is a formula linking a Mersenne Prime to its corresponding perfect number by multiplication. Use the table below to help you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053040" y="3992400"/>
            <a:ext cx="2811600" cy="971640"/>
            <a:chOff x="6053040" y="3992400"/>
            <a:chExt cx="2811600" cy="971640"/>
          </a:xfrm>
        </p:grpSpPr>
        <p:sp>
          <p:nvSpPr>
            <p:cNvPr id="181" name=""/>
            <p:cNvSpPr/>
            <p:nvPr/>
          </p:nvSpPr>
          <p:spPr>
            <a:xfrm flipV="1">
              <a:off x="6053040" y="4545000"/>
              <a:ext cx="1378080" cy="41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5040" y="3992400"/>
              <a:ext cx="147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ff"/>
                  </a:solidFill>
                  <a:latin typeface="Comic Sans MS"/>
                </a:rPr>
                <a:t>Write as a power o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714760" y="2757600"/>
            <a:ext cx="6211800" cy="1008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is a formula linking a Mersenne Prime to its corresponding perfect number by multiplication. Use the table below to help you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6053040" y="3992400"/>
            <a:ext cx="2811600" cy="971640"/>
            <a:chOff x="6053040" y="3992400"/>
            <a:chExt cx="2811600" cy="971640"/>
          </a:xfrm>
        </p:grpSpPr>
        <p:sp>
          <p:nvSpPr>
            <p:cNvPr id="202" name=""/>
            <p:cNvSpPr/>
            <p:nvPr/>
          </p:nvSpPr>
          <p:spPr>
            <a:xfrm flipV="1">
              <a:off x="6053040" y="4545000"/>
              <a:ext cx="1378080" cy="41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5040" y="3992400"/>
              <a:ext cx="147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ff"/>
                  </a:solidFill>
                  <a:latin typeface="Comic Sans MS"/>
                </a:rPr>
                <a:t>Write as a power o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12960" y="2901960"/>
            <a:ext cx="6211800" cy="70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-1 is a Mersenne prime then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 perfect number. Check this for the first f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15:58:52Z</dcterms:created>
  <dc:creator>MIKE CROWLEY</dc:creator>
  <dc:description/>
  <dc:language>en-US</dc:language>
  <cp:lastModifiedBy>stafflrl</cp:lastModifiedBy>
  <dcterms:modified xsi:type="dcterms:W3CDTF">2007-06-13T15:20:03Z</dcterms:modified>
  <cp:revision>39</cp:revision>
  <dc:subject/>
  <dc:title>Perfect Numbers and Mersenne Primes</dc:title>
</cp:coreProperties>
</file>